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9E1-C3AD-474F-896D-B89CE56E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A81-CC58-4E56-A7B1-2EDABDF2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8BA-5B41-4A77-9DB7-D5716767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AE1-4C0E-4DA1-A175-2562D13E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B1C2D-1C51-4CA2-94BF-5A7F1FF5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F0B15-956E-4A85-94FA-21EE1D93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8A0F8-ED42-4475-9050-B8FCA707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83006-13E6-45C5-95CD-5A2462F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DADC8-5947-41F3-955F-2D25096E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4BF83-D39C-4896-94C0-E46DC87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57971-6E1C-4571-ADD3-28108FB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741-5763-4C19-89B5-5E04AE0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A5628-0E08-4A96-9BCC-9480B33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26316-FD40-4BEE-98DA-F9E839D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0210C-094B-409C-B501-20DA044F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C347E-AD3E-46F7-99F2-D17EFEA5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F72FB-7CD3-46DB-8BF5-DC9B39A5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134-5A94-491A-91AF-56D4D2B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C9A-7C38-449F-919F-87B8024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272-8D4D-4613-BA06-92C23C08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203-D3F4-438F-80A7-1486EEEE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9E3-8205-4917-B235-F159C3F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7FF-E0CE-4C40-99B5-0CFD969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D30-C991-4AD6-B731-AF5A10B7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84B9-7F73-4031-BEC4-0D2C6B661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DBA4-0A30-4BB8-BF8B-E4276A18A8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 mans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dford Shaple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0" y="2795760"/>
            <a:ext cx="4495680" cy="3376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ci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6324480" y="1371600"/>
            <a:ext cx="2590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Replay 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9800" y="236232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works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902160" y="18288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2160" y="2286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2160" y="27432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2160" y="32004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2160" y="36576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92880" y="18288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92880" y="2286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92880" y="27432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l garaj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uarto u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54160" y="1295280"/>
            <a:ext cx="3218040" cy="4648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uarto d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92440" y="1523880"/>
            <a:ext cx="36846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5120" y="1081080"/>
            <a:ext cx="5105160" cy="3427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029200" cy="3768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b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66880" y="1076400"/>
            <a:ext cx="3733920" cy="34002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52480" y="1133640"/>
            <a:ext cx="5410440" cy="3985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76560" cy="3654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4:29Z</dcterms:created>
  <dc:creator>shapleighbra</dc:creator>
  <dc:description/>
  <dc:language>en-US</dc:language>
  <cp:lastModifiedBy>shapleighbra</cp:lastModifiedBy>
  <dcterms:modified xsi:type="dcterms:W3CDTF">2012-10-25T17:29:31Z</dcterms:modified>
  <cp:revision>5</cp:revision>
  <dc:subject/>
  <dc:title>La casa</dc:title>
</cp:coreProperties>
</file>